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D57A-9211-4316-8E09-29DBED3CB0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EC8-25EC-4474-98CA-F2B96DF0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BE5-29BF-4567-AA4D-11B0B0CB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FC2-3872-4EE2-B63C-16C0F778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CC6-F9AF-457E-BBDA-22587042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8B06-534D-466D-B99F-871C05F8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3D4D-2777-4BE1-B632-42C1D22A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F7B7-BAFE-486F-AFE6-BE4E8489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695B-651B-4975-9F4C-FBFFCD06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F720-C8E4-400D-91B3-531F9443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8BA0-6AD6-4389-A25C-D36F0CC6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B39F-3336-487A-8C0C-3581F25A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0D5-8CE0-498D-8E8B-7CD95010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F2CF-C2C9-45C3-9A9C-33D9DC5E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D4AF-601F-479E-B751-81077309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D291-DFD4-4C03-95C8-D707E3C0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FCD0-CC24-4E90-8ED5-92734D02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A63D-548E-4A5F-91E1-7D419818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16C-907A-4297-BBF4-7A1B18D8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CED-8315-489A-A533-79B6BDBB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ADF-F140-4096-9ED9-6894433E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04F-F30C-46EA-B23B-4537D465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ACD-0F49-48AB-BB5D-1F673641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349-2E04-4E68-94D1-C45EBAB6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C6F-2168-4BB7-8BFE-E6A21738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A366-CC5B-4090-B0DC-EE686A9D14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8D10-E5EE-40AD-BA77-88B4E0AF82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371600" y="3124080"/>
            <a:ext cx="6400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s all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ell activit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tru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everything the cell do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instructions are found on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eredita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erial calle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arg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gan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nucleus"/>
          <p:cNvPicPr/>
          <p:nvPr/>
        </p:nvPicPr>
        <p:blipFill>
          <a:blip r:embed="rId1"/>
          <a:stretch/>
        </p:blipFill>
        <p:spPr>
          <a:xfrm>
            <a:off x="762120" y="236232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8" descr="nucleus#2"/>
          <p:cNvPicPr/>
          <p:nvPr/>
        </p:nvPicPr>
        <p:blipFill>
          <a:blip r:embed="rId2"/>
          <a:stretch/>
        </p:blipFill>
        <p:spPr>
          <a:xfrm>
            <a:off x="5638680" y="38088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AR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8" descr="aEukaryoticCell"/>
          <p:cNvPicPr/>
          <p:nvPr/>
        </p:nvPicPr>
        <p:blipFill>
          <a:blip r:embed="rId1"/>
          <a:stretch/>
        </p:blipFill>
        <p:spPr>
          <a:xfrm>
            <a:off x="4800600" y="25146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60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ytopla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s movement of material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 &amp; o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nucle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OL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ka “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ittle 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nd i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nucleolusfigure1"/>
          <p:cNvPicPr/>
          <p:nvPr/>
        </p:nvPicPr>
        <p:blipFill>
          <a:blip r:embed="rId1"/>
          <a:stretch/>
        </p:blipFill>
        <p:spPr>
          <a:xfrm>
            <a:off x="4495680" y="2590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HROMATI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enetic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controls c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chromosome"/>
          <p:cNvPicPr/>
          <p:nvPr/>
        </p:nvPicPr>
        <p:blipFill>
          <a:blip r:embed="rId1"/>
          <a:stretch/>
        </p:blipFill>
        <p:spPr>
          <a:xfrm>
            <a:off x="5715000" y="2971800"/>
            <a:ext cx="2552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CELL 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mallest unit that is capable of perform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fe func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eucell"/>
          <p:cNvPicPr/>
          <p:nvPr/>
        </p:nvPicPr>
        <p:blipFill>
          <a:blip r:embed="rId1"/>
          <a:stretch/>
        </p:blipFill>
        <p:spPr>
          <a:xfrm>
            <a:off x="3581280" y="327672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difftypesofcells3"/>
          <p:cNvPicPr/>
          <p:nvPr/>
        </p:nvPicPr>
        <p:blipFill>
          <a:blip r:embed="rId1"/>
          <a:stretch/>
        </p:blipFill>
        <p:spPr>
          <a:xfrm>
            <a:off x="5334120" y="762120"/>
            <a:ext cx="3533760" cy="579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OMPARING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cell relates to it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(job it do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support"/>
          <p:cNvPicPr/>
          <p:nvPr/>
        </p:nvPicPr>
        <p:blipFill>
          <a:blip r:embed="rId2"/>
          <a:stretch/>
        </p:blipFill>
        <p:spPr>
          <a:xfrm>
            <a:off x="1219320" y="4724280"/>
            <a:ext cx="2143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Pro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proh KAYR ee yah tihk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2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ond sc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DSCN0576"/>
          <p:cNvPicPr/>
          <p:nvPr/>
        </p:nvPicPr>
        <p:blipFill>
          <a:blip r:embed="rId1"/>
          <a:stretch/>
        </p:blipFill>
        <p:spPr>
          <a:xfrm>
            <a:off x="5486400" y="23623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Eu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yew KAYR ee yah tihk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with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animal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is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9" descr="EukaryoticCell"/>
          <p:cNvPicPr/>
          <p:nvPr/>
        </p:nvPicPr>
        <p:blipFill>
          <a:blip r:embed="rId1"/>
          <a:stretch/>
        </p:blipFill>
        <p:spPr>
          <a:xfrm>
            <a:off x="1066680" y="2590920"/>
            <a:ext cx="3733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c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made of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ul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ell wall is found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g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&amp; mos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CELL 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7" descr="cell wall#2"/>
          <p:cNvPicPr/>
          <p:nvPr/>
        </p:nvPicPr>
        <p:blipFill>
          <a:blip r:embed="rId1"/>
          <a:stretch/>
        </p:blipFill>
        <p:spPr>
          <a:xfrm>
            <a:off x="5562720" y="457200"/>
            <a:ext cx="29620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ELL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440" y="23623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er covering,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ctive lay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oun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cells with cell walls,the cell membran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ide the cell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oo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to the cell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oducts out of the ce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10" descr="cytoplasm"/>
          <p:cNvPicPr/>
          <p:nvPr/>
        </p:nvPicPr>
        <p:blipFill>
          <a:blip r:embed="rId1"/>
          <a:stretch/>
        </p:blipFill>
        <p:spPr>
          <a:xfrm>
            <a:off x="5791320" y="25146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PLA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elatin-li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ide cell membr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ant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l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opla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YTOPLASM #2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ytoplasm"/>
          <p:cNvPicPr/>
          <p:nvPr/>
        </p:nvPicPr>
        <p:blipFill>
          <a:blip r:embed="rId2"/>
          <a:stretch/>
        </p:blipFill>
        <p:spPr>
          <a:xfrm>
            <a:off x="510552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SKELETO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38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scaffold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-like structure in cytoplas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lps the cell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maintai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chang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ts shap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ei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h1_cytoskeleton"/>
          <p:cNvPicPr/>
          <p:nvPr/>
        </p:nvPicPr>
        <p:blipFill>
          <a:blip r:embed="rId1"/>
          <a:stretch/>
        </p:blipFill>
        <p:spPr>
          <a:xfrm>
            <a:off x="5257800" y="2514600"/>
            <a:ext cx="333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40:52Z</dcterms:created>
  <dc:creator>Becky</dc:creator>
  <dc:description/>
  <dc:language>en-US</dc:language>
  <cp:lastModifiedBy>RomaK</cp:lastModifiedBy>
  <dcterms:modified xsi:type="dcterms:W3CDTF">2015-09-04T10:55:38Z</dcterms:modified>
  <cp:revision>13</cp:revision>
  <dc:subject/>
  <dc:title>Chapter 2 “Cells” Section 1: “Cell Structure Pages 38 – 40</dc:title>
</cp:coreProperties>
</file>